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466-1FD5-4502-9AE5-B5601D9E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0B9-9AF6-4A88-AE07-7DC942AD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718-5483-4572-8D29-869B5267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B7A-8BD2-4CF6-806C-2E96ECA2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405-D861-4BDB-BBD7-B60E46AF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FB1-5817-4010-89F8-DACEC24E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B84-9A77-498E-A0AB-F0E4AC0B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812-7741-46D0-9B38-C76600AA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930-2A9A-4B83-843F-48847CC3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926-A8F5-4E1B-B40F-25C118E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A12-25CB-43BD-BD65-6E253A8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8D9-1CFF-42FA-953B-F2D51F5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57AD-4574-4723-84CE-08EC59E4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01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914400" y="36576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黑体"/>
                <a:ea typeface="黑体"/>
              </a:rPr>
              <a:t>单元五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黑体"/>
                <a:ea typeface="黑体"/>
              </a:rPr>
              <a:t>护理管理的计划职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5135400" y="13302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护理管理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380880" y="15238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目标管理的基本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制定目标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织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检查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目标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矩形 6"/>
          <p:cNvSpPr/>
          <p:nvPr/>
        </p:nvSpPr>
        <p:spPr>
          <a:xfrm>
            <a:off x="380880" y="1523880"/>
            <a:ext cx="8305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时间管理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管理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manageme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是指人们面对有限的时间而进行的自我管理、形成 的工作习惯等。为时间的合理利用设计的一系列控制工作，包括对时间进行的计划和分 配，以保证重要工作的顺利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6"/>
          <p:cNvSpPr/>
          <p:nvPr/>
        </p:nvSpPr>
        <p:spPr>
          <a:xfrm>
            <a:off x="380880" y="15238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时间管理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提高工作效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改变对事情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严格规定了事情完成的最后期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矩形 6"/>
          <p:cNvSpPr/>
          <p:nvPr/>
        </p:nvSpPr>
        <p:spPr>
          <a:xfrm>
            <a:off x="380880" y="15238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常见时间管理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A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管理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象限”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番茄工作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6"/>
          <p:cNvSpPr/>
          <p:nvPr/>
        </p:nvSpPr>
        <p:spPr>
          <a:xfrm>
            <a:off x="380880" y="15238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实践管理的基本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分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排时间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总结并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380880" y="1523880"/>
            <a:ext cx="83059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、时间管理应该具备的基本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强烈的时间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时间成本效益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时效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定量控制自己时间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鉴别关键事务和一般事务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胜任工作的熟练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节约和灵活运用时间的技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Users\二胖\Desktop\护理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示 18" descr=""/>
          <p:cNvPicPr/>
          <p:nvPr/>
        </p:nvPicPr>
        <p:blipFill>
          <a:blip r:embed="rId2"/>
          <a:stretch/>
        </p:blipFill>
        <p:spPr>
          <a:xfrm>
            <a:off x="1463760" y="2494080"/>
            <a:ext cx="6095880" cy="2236680"/>
          </a:xfrm>
          <a:prstGeom prst="rect">
            <a:avLst/>
          </a:prstGeom>
          <a:ln w="0">
            <a:noFill/>
          </a:ln>
        </p:spPr>
      </p:pic>
      <p:sp>
        <p:nvSpPr>
          <p:cNvPr id="51" name="矩形 16"/>
          <p:cNvSpPr/>
          <p:nvPr/>
        </p:nvSpPr>
        <p:spPr>
          <a:xfrm>
            <a:off x="228600" y="838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示 8" descr=""/>
          <p:cNvPicPr/>
          <p:nvPr/>
        </p:nvPicPr>
        <p:blipFill>
          <a:blip r:embed="rId2"/>
          <a:stretch/>
        </p:blipFill>
        <p:spPr>
          <a:xfrm>
            <a:off x="536400" y="1262160"/>
            <a:ext cx="8382240" cy="3998880"/>
          </a:xfrm>
          <a:prstGeom prst="rect">
            <a:avLst/>
          </a:prstGeom>
          <a:ln w="0">
            <a:noFill/>
          </a:ln>
        </p:spPr>
      </p:pic>
      <p:sp>
        <p:nvSpPr>
          <p:cNvPr id="56" name="矩形 9"/>
          <p:cNvSpPr/>
          <p:nvPr/>
        </p:nvSpPr>
        <p:spPr>
          <a:xfrm>
            <a:off x="110196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计划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380880" y="1523880"/>
            <a:ext cx="8458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计划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计划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是在权衡组织的实际情况后，在工作或行动之前预先拟订的方案。计 划实质上是一系列相关的决策过程。包括制订计划、实施计划和反馈评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6"/>
          <p:cNvSpPr/>
          <p:nvPr/>
        </p:nvSpPr>
        <p:spPr>
          <a:xfrm>
            <a:off x="380880" y="15238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计划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利于实现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利于提高工作效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利于管理与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计划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6"/>
          <p:cNvSpPr/>
          <p:nvPr/>
        </p:nvSpPr>
        <p:spPr>
          <a:xfrm>
            <a:off x="380880" y="1523880"/>
            <a:ext cx="830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计划表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宗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任务或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预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计划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6"/>
          <p:cNvSpPr/>
          <p:nvPr/>
        </p:nvSpPr>
        <p:spPr>
          <a:xfrm>
            <a:off x="380880" y="1523880"/>
            <a:ext cx="8305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计划的一般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形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确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考虑现有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出可选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对比各种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选定最佳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制定辅助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编制预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计划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6"/>
          <p:cNvSpPr/>
          <p:nvPr/>
        </p:nvSpPr>
        <p:spPr>
          <a:xfrm>
            <a:off x="380880" y="1523880"/>
            <a:ext cx="8305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目标管理的概念及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它是指组织内的管理者和被管理者共同参与管理工作， 通过确定共同目标和个人目标，实行自我管理，共同努力以实现组织总目标的一种管理 思想和管理工作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目标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380880" y="1523880"/>
            <a:ext cx="83059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目标管理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同参与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整体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自主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强调评价与反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目标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UP</dc:creator>
  <dc:description/>
  <dc:language>en-US</dc:language>
  <cp:lastModifiedBy>acer</cp:lastModifiedBy>
  <dcterms:modified xsi:type="dcterms:W3CDTF">2021-07-15T06:44:59Z</dcterms:modified>
  <cp:revision>1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